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0AE-5995-425F-9B33-60C4B2D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596-9C39-4507-AF43-F9BCC0EB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3BC74-09D7-44CB-A63A-96FACF2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1A9EA-86B4-475E-A54C-865FCF3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8EC2D-EC38-4896-8431-C89CF0C6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7956F-FFE6-4A40-9AA4-1DBC7AF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0AABD-2323-404C-B5D5-B75C1D38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541A6-0B1A-4916-B69F-85753B2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862F6-A15E-43B8-88F7-A4FD7988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9EE3C-2213-4123-A3E9-C80A4F38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C0B4E-9955-46CC-B628-672D3A20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8C9F8-72FD-4633-9845-79484166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91F-AECE-4632-A853-C381E365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2D5E9-E62E-42F6-83E2-8ED7111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840A3-77AA-412F-94F1-E7707F8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CA904-F5D0-48FB-9AED-9A88A778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A002D-566B-4DD2-A0A1-AA49A4EE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A6ADB-9669-4737-B21E-BE7A760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62D79-F467-4E86-93E9-DDB840A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47CBA-B30B-4B14-856B-9DEA598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51FD7-610D-4080-A4EA-FA6C6C0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6653D-06F3-4E90-9317-9F4895D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C3509-55B6-4D2F-8D7C-A70B6C41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AEF-C1BD-4F7A-B4A1-9ADAD7F9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2DCFD-2E9C-43CB-AC14-E87D6DBB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54BF9-FA07-4737-8D82-2B94C5E1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250B6-8D5C-444A-9977-F4D55E0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FD04-8047-4F12-8471-E2FB2CD4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9A41-7678-48E8-9EC4-39213FD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29AF-3A01-49AF-885B-1F4D7A5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00748-A5EC-46D5-BD5F-D3725EE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2CDF3-DE27-4480-A0D8-1DD6F49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796A-3553-43C3-8857-3115B19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8854-E345-4867-B2C3-32461F6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1E3-43B3-4311-86DC-9DB999E3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776AC-05EE-459D-92E2-9D8DA0B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781CE-976D-46A2-8D8F-92833737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C1E0E-C1A2-48CC-A2E4-E97161C1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D0AE-2B0A-402D-ABD1-907B02EF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8EDE6-5282-4336-A4F1-CBC597F4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91AFA-3935-451A-A602-51BEB5E4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C5BB4-76B7-4CFE-8223-B91678BB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862E7-A342-4BA2-9B53-BFD3026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32FCA-8357-4AD4-89A8-D558A138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E4D3D-A73C-43D5-99AC-B42AB250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7C86-5EC1-4CD7-806B-A7CA6269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E0D7-C5DE-4326-87C4-356A037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BB7B5-9B68-42A8-95B7-36BE52F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B255-954A-45E1-BF48-98815FB1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ABA1-2418-449A-8240-13AB57AF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90E41-2C2D-458C-95F5-C0966D0F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9E851-9638-411D-8174-082287F5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EC391-3C81-433D-A147-0578B3D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E0C59-5591-4BCA-A94C-5A65B2C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FFC87-D74C-4D39-88CC-5B56F52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74759-F37A-424F-AFAE-FD735382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31F8-7636-4E36-ABBB-4BECDA7F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E0592-CD9A-43FC-97AA-A2BD4CE0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26E5D-2C07-48C9-B2F3-F4432B8D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4C5E0-B6E7-4AB9-B2EE-E6D7476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E41E7-02FF-4051-B47B-2B95A4C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D92EB-FFF3-499E-BC42-9A9A89F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E8DDA-F678-423E-8485-721DB4E5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49A22-40E6-4620-9CCC-252C6784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A3389-DAF7-4134-BE3A-0D6CF024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39721-856A-423E-ABA9-49941E86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401A9-9126-444C-8D13-7212EB11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1F62-59A6-4754-A130-1F7BE5F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BABF8-41CF-4B63-8EDA-763BCFD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287C8-B10E-4712-BCD8-F561AF0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ABD9E-2C5D-4156-BEE9-CDA3918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F45BF-003B-4CDE-A6BC-9D33414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B85CB-6DBA-4F23-80C4-D51FABE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2E4F8-AEC6-4769-977D-2032005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CA75D-0B99-4903-9E0E-329A23C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AB077-88F5-477F-986B-048E6E38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B6336-942A-46FB-BE7F-E991A26E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E960B-5E59-4CB6-89E6-703459A1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71F8-399C-4BEF-996C-FC2C238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621C9-22BF-400D-A338-F2B94C6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C1CF3-C2A5-4593-9E6C-DB41A25D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7D580-EE0D-4965-94FB-22FBB24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7A2B0-8DBF-4438-8CD8-C73A43C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CDD46-5C7E-4B59-87C7-8A7DEC86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597F9-103D-4743-83D5-18908CE1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1A2F6-0EEE-4C66-AC3A-F984758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CE81C-C79D-49BB-86AA-595E943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C3D4E-3B09-4065-888B-8E1DD3D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D225A-95F4-47A2-84B0-B80B6177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1D85-318B-4D03-971F-61E57C4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D9C0E-9E4F-44A6-8DAB-3C54D2A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28AB1-326A-4FA1-93F8-E898DBA9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FA0BD-8D96-40BB-8E33-363273B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10F45-FC62-4D66-A83D-FB9526DC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F283F-7B57-4E34-8A1C-6CFF3353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EC1F8-A3DA-4440-968A-4E4F1EC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058F6-9153-4C0B-A108-078BDD1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73995-86B3-401F-989D-93E430C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F77199-BB41-48C7-A656-D30D3AB9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4B31D-AC41-4C40-AACC-64AF48D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ABC-1CFA-464C-BF92-904E000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EB0E7-5182-43A6-9E87-DE3626C0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42AFE-4139-46A6-B3CF-83842AD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3A309-56F6-402F-8DCD-C6968278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1B93D-5AC5-4F31-9416-D3AC11AE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6757A-BDE9-4965-BD01-C63D762B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7714A-4183-4606-9603-C11E2976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678DE-D8B4-4556-94F2-A3177ED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34268-C586-4350-98DE-8FEB4189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DF653-E1EB-48F1-95A6-14E4251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C12C0-6F65-481B-AB8A-05575256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0ED-03B1-4602-958B-4FA04F5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BDEC-ECDC-4D82-8CCA-E700530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0CB35-FC5B-4BD6-BEEE-566DFB7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8E7EC-76C5-436C-A500-B69EEE5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E46FE-AC66-43CE-A85C-3FE09EDE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FCDBE-38D8-4001-899F-8062C130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2B5B5-56DA-4221-A82D-7A062049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A729DB-89C1-4DDA-9A11-4B3CCA5C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1F374-C91D-40CA-9CF5-797E156B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25997-A963-45BE-AFA3-A654651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C4212-88C4-4EF2-A43A-7CBB3403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00E53-738D-4C3A-B6BB-3A3F218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B0F2-B191-4895-B293-35052DE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1964B-EADB-47F5-B2E9-476BE6AD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E743C-33BA-4F42-92CC-DAD85A7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04461-C2F4-4EBB-A829-FC758EED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87866-1305-4F8E-A42B-8C4D93B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37B40-B99A-421C-B029-400A9C83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CDE77-88FD-4A8A-9E10-2ACA2CC3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AF105-CF9D-45AE-945F-0A87B201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83E8C-961C-4CA2-ACD9-7B1ECED5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979C0C-3563-4819-8441-F53C5EE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1D862-C154-4F8F-90A7-9A010A32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FDD1-B1A3-4A40-9C29-ADED164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7AD7FA-3719-4A81-BA6F-F0A9AB2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EFA80-B19C-4CC7-850B-AF735E7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8F4B8-B211-4F6A-B64B-1879F3F7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B7924-A90D-4768-A9B8-22ACCD8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33011-D4CE-450D-8EFA-D4826C7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AE44E-65AF-4397-BC87-CFA0C3E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17E20-D291-4BEB-B662-17AD4483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FFF90-A3E7-414B-8719-76803186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30522B-4A46-4718-A8B2-0C9D7F9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8AC0F-4C17-45D5-9981-F7C629E8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7531-9C07-4E44-B4F0-6248176F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79423-6691-4AE4-96DC-CDFF4023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CA9DD-C5C3-4062-8954-D89E2F26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4E984-7747-4732-BC22-6DD6B128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1559A-B057-4454-AF08-F17243A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1FF1E-A2C7-4795-AF3F-58365F99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4814F-2576-4600-917A-72D7BC1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E972D-D259-4759-87FF-2FAE390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CD288-61D1-49D3-84D3-7EF0F03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0C6D0-5A37-464D-93FB-7177473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46CDD-8BEF-4286-8FA8-8B9219AD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2349-76D3-4A53-8066-AC687941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31B03-A807-4D7C-80EC-B8549F5B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B4C93-2B90-486B-8236-215F23A6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C66E7-E401-41A4-BB3D-1A476618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75FBB-6EDA-4735-AC85-F962F31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CB4FE7-A949-4C8A-AFBF-4F2BE13A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5C003-834C-428C-BEDD-B07A008B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49D9C-1AB3-44D5-B0D9-57D12889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A607E-309F-4D97-89EA-95436CA6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1287B-6BA2-4D9B-92ED-3BE54A3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C40DA-2142-41AA-84BD-22B948D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1F47-0E8E-4282-84B3-73B4EA0F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01AAA-554A-491A-A2B7-1376D74D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E2A1A-4F3C-4EA0-A3A0-77D52DD9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9E533-F961-42FE-9287-A7561FD5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B36E-3FAA-4B7F-A771-7A5093B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BD92-FB0D-459D-8D72-21604CB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C83F-C44C-425A-9E07-D381F5F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3529-CBAA-4803-9320-678FB2B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93E-8AF4-4B60-9EC9-D489A83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C20D7-5629-42F6-A396-96B2D0B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DFD8-5E62-44E5-90F2-A9AFE4EB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8C00-B2F2-448C-944F-9100C6D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4AE1-E034-4EF9-8E48-785C169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7D7B-A528-4404-A7BC-EF9321C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54AC-2B13-4575-B981-549FBC7D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D989-8392-4B6F-9CB2-D6F9BA9B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45DEA-B95D-44A9-B0A7-63EC399C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BDD8-D590-4114-B6E6-D3FFAAE4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0034-EB02-4CCD-9305-487B72AE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167-E210-49B1-8B2E-02AF7A8E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DF33-D7BC-475F-B33F-9D77FA9F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0C05-0EBB-496D-AE45-F5979C0B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5C56-A195-4595-896E-491B5DE6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CEA7-6FBE-4926-A6D6-332D0DA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8689-E9BE-423E-B214-5A06DF9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F7D5-22ED-4E92-A06C-35D51F8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8964-F7DD-4CBA-BA92-8D03A69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4EA84-4AB9-41EB-B9B0-6956667E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E422-A963-4A55-A9EE-8B08886F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BDCA-2164-4C58-AFAB-24FAE7F2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1FA-241D-4850-B4BB-5186EB48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ADDB3-86B2-4E3B-A1C1-130B5CBF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6608-3201-43C7-A8FB-684C7D4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C6B6-7D40-4DA9-A520-EA88045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AFD5A-F1DF-4EF8-9343-8C52061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5D58-5E4F-4E8E-9E99-9113D2E7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9CF7-0BF1-4DA5-8642-A74A5D5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C75C-1850-43C1-9618-F84C1A66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7A65D-B9F5-4B5B-A58B-48D50B4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8D9F3-E9AE-415E-8CB2-C2157C9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C6E8-180D-4B55-824F-BED9F5F0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57D-DF0A-4488-B7B6-9C6F1CCE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E4962-749C-4743-AA07-4B990CA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7B7A-BE35-4C62-A448-5903D20E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45A8-7538-4669-A75F-EB302C36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CC7D8-A7F9-4AE7-BFAD-3E56F7A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EF3C-249D-43C4-B2BA-0D40C0B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3EC30-63B4-46A9-9083-48F0D2D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5B02-BCB0-43AE-B766-93DA373C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DBF4-4A89-402D-9B54-C711D35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3EDE-7D52-4085-A975-A3079ADD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7C75-DF20-42E2-AFCA-F3A7EDF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FD1-D32C-464C-B09F-5DD28A48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03DA-D159-4F58-8D5B-EEAF190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75C91-04A9-4A5C-8A82-2306FBE1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CB6F-5368-487A-925E-EF1C8FA6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C2D5-7D1E-4A0A-9169-ACB0A28E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5540-38C6-4122-B3B1-61327E18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C1311-84DB-4490-8F55-1079F48E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5BE0-0799-4C7B-9BAD-FD2E7216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01C8A-1B70-484A-9AFF-B6E7B279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AA6F-BBA6-4551-B773-2FB70F0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2BF4-F520-4149-A6B3-F313EF0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501-C83A-4250-9355-D8EB023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942DC-16FA-40F7-A89F-8739007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A57E5-5B1F-442F-91EF-6EBFB05E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340F-65E3-474B-A6D8-7BB4FBBC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5592-1CEA-4914-90A3-E6683062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F27F-2B31-48E0-B1A3-00D880E8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92372-19B0-488C-A618-6AFD05BE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626A-F3CE-4100-85D1-515B1DF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CE0F-6DAB-4588-96A8-8E87BCAA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F8E8-A1C5-4461-A96D-1457D1E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6D529-88FB-4E42-B317-458BE4D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6F3-0CF1-4B26-BDAC-8ADBB6E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AF14-4F0F-49E0-B802-D05C7BFB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F823-AA50-4330-A9B6-8F73F81C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7827-0140-4FF1-9037-09BDFF8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D46B-7D97-4E41-9B83-B67C3A9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AA09E-9CAD-4D81-9855-C913786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6820-D6FC-4CC8-AB00-E4223EDA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003D6-47E3-414A-BF6E-DE5BA941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306B0-DB5D-416F-8B8C-0D9275FA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2CB43-6BD4-41DB-8981-6EBAC95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C37E1-509B-4D0C-A091-B0EABDB4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0F38-31D9-4BC6-9B73-7198C532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097-A4CD-4DB1-9764-003C26C41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AA7-83F5-4A90-A1DC-21C7C1FA8A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4CE9-B559-4EEF-BFDF-E46C6333A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6BD2-17EC-4D41-B41C-CE44A4A62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80C7-F114-45C4-8995-B24F30F8DD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44BF-EA92-4BD0-8229-50635CA3A0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F5B6-FA78-494D-AF37-F61BBBEDA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5E0B-E704-42B4-A010-7309EF946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100-07B2-4E1B-9F09-BC00FD10B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8AF2-2F96-49E5-AC97-1B78C53C1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2F26-E614-40AA-B6EB-A878DED8D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AA7C-E2E6-4DFB-834F-3D4D27AFC8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3F2-9245-4015-9A69-8DBB4E46D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696-ACE3-4A98-A87B-CD9722A6A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4BC-31D8-4F3D-A813-CBB3E62044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893-3A58-44CB-8D88-6D5E70711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F03-3830-49A0-82E9-BA180F018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31C1-783A-49E4-A385-29D726972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C6A3-1457-4046-B4C4-3CE8DC7BF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CA37-0C17-4D36-8F05-649DEA012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452D-5156-4973-B65B-F81E842B7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6E3-76A1-4A2C-9630-0A22CABD1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8539-718A-47EE-9690-ED78F71F6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06FD-DA0C-43A2-9890-1BB22CBD6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C96-CFA5-4546-9371-D20FA8099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2EE-DCE0-4D30-8409-811E951AF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89C8-8002-4245-944F-500963BD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F95-59E6-410E-AB5F-83E90FE28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89B7-288A-4314-9705-806D3C2C0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697-1242-43C2-AC3B-5DF9A95DF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EC8C-FA93-428E-B721-56678784C0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D6D-8E9E-4424-AFF1-4A3931EC0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E15A-3766-42FC-BD0D-BF544BD3F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C78-8672-4C2F-B60C-0323BBFA0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284-D2E6-465C-A06A-DB03A94FD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1A6-4A72-4D90-BB77-D92B02A0B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6BC-9F31-4505-8DCC-2D67E333A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5356-C08A-4E4C-BD86-87A1E91EA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FC8-46FA-433C-982B-959B84FE0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6320" y="2552760"/>
            <a:ext cx="8991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19240" y="1119240"/>
            <a:ext cx="8705520" cy="46195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" descr=""/>
          <p:cNvPicPr/>
          <p:nvPr/>
        </p:nvPicPr>
        <p:blipFill>
          <a:blip r:embed="rId2"/>
          <a:stretch/>
        </p:blipFill>
        <p:spPr>
          <a:xfrm>
            <a:off x="1625760" y="40258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1" descr=""/>
          <p:cNvPicPr/>
          <p:nvPr/>
        </p:nvPicPr>
        <p:blipFill>
          <a:blip r:embed="rId3"/>
          <a:stretch/>
        </p:blipFill>
        <p:spPr>
          <a:xfrm>
            <a:off x="1625760" y="4854600"/>
            <a:ext cx="46188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2309760" y="1733400"/>
            <a:ext cx="4524480" cy="339120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6" descr=""/>
          <p:cNvPicPr/>
          <p:nvPr/>
        </p:nvPicPr>
        <p:blipFill>
          <a:blip r:embed="rId2"/>
          <a:stretch/>
        </p:blipFill>
        <p:spPr>
          <a:xfrm>
            <a:off x="3282840" y="215424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1" descr=""/>
          <p:cNvPicPr/>
          <p:nvPr/>
        </p:nvPicPr>
        <p:blipFill>
          <a:blip r:embed="rId3"/>
          <a:stretch/>
        </p:blipFill>
        <p:spPr>
          <a:xfrm>
            <a:off x="3282840" y="300348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2" descr=""/>
          <p:cNvPicPr/>
          <p:nvPr/>
        </p:nvPicPr>
        <p:blipFill>
          <a:blip r:embed="rId4"/>
          <a:stretch/>
        </p:blipFill>
        <p:spPr>
          <a:xfrm>
            <a:off x="3282840" y="3854520"/>
            <a:ext cx="4622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071880" y="781200"/>
            <a:ext cx="2743200" cy="637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" descr=""/>
          <p:cNvPicPr/>
          <p:nvPr/>
        </p:nvPicPr>
        <p:blipFill>
          <a:blip r:embed="rId4"/>
          <a:stretch/>
        </p:blipFill>
        <p:spPr>
          <a:xfrm>
            <a:off x="157320" y="2405160"/>
            <a:ext cx="8827920" cy="20476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4741920" y="40464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8069400" y="40464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2973240" y="40464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1187280" y="40464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" descr=""/>
          <p:cNvPicPr/>
          <p:nvPr/>
        </p:nvPicPr>
        <p:blipFill>
          <a:blip r:embed="rId9"/>
          <a:stretch/>
        </p:blipFill>
        <p:spPr>
          <a:xfrm>
            <a:off x="6240600" y="4046400"/>
            <a:ext cx="46188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885960" y="798480"/>
            <a:ext cx="7372080" cy="58658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" descr=""/>
          <p:cNvPicPr/>
          <p:nvPr/>
        </p:nvPicPr>
        <p:blipFill>
          <a:blip r:embed="rId2"/>
          <a:stretch/>
        </p:blipFill>
        <p:spPr>
          <a:xfrm>
            <a:off x="1515960" y="127152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" descr=""/>
          <p:cNvPicPr/>
          <p:nvPr/>
        </p:nvPicPr>
        <p:blipFill>
          <a:blip r:embed="rId3"/>
          <a:stretch/>
        </p:blipFill>
        <p:spPr>
          <a:xfrm>
            <a:off x="1515960" y="229536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4"/>
          <a:stretch/>
        </p:blipFill>
        <p:spPr>
          <a:xfrm>
            <a:off x="1515960" y="343692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1515960" y="4530600"/>
            <a:ext cx="462240" cy="3351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1515960" y="5626080"/>
            <a:ext cx="4622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47760" y="1063800"/>
            <a:ext cx="7353360" cy="234288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2" descr=""/>
          <p:cNvPicPr/>
          <p:nvPr/>
        </p:nvPicPr>
        <p:blipFill>
          <a:blip r:embed="rId2"/>
          <a:stretch/>
        </p:blipFill>
        <p:spPr>
          <a:xfrm>
            <a:off x="395280" y="3719520"/>
            <a:ext cx="8352000" cy="23526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1" descr=""/>
          <p:cNvPicPr/>
          <p:nvPr/>
        </p:nvPicPr>
        <p:blipFill>
          <a:blip r:embed="rId3"/>
          <a:stretch/>
        </p:blipFill>
        <p:spPr>
          <a:xfrm>
            <a:off x="987480" y="147492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2" descr=""/>
          <p:cNvPicPr/>
          <p:nvPr/>
        </p:nvPicPr>
        <p:blipFill>
          <a:blip r:embed="rId4"/>
          <a:stretch/>
        </p:blipFill>
        <p:spPr>
          <a:xfrm>
            <a:off x="987480" y="188136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" descr=""/>
          <p:cNvPicPr/>
          <p:nvPr/>
        </p:nvPicPr>
        <p:blipFill>
          <a:blip r:embed="rId5"/>
          <a:stretch/>
        </p:blipFill>
        <p:spPr>
          <a:xfrm>
            <a:off x="987480" y="221616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4" descr=""/>
          <p:cNvPicPr/>
          <p:nvPr/>
        </p:nvPicPr>
        <p:blipFill>
          <a:blip r:embed="rId6"/>
          <a:stretch/>
        </p:blipFill>
        <p:spPr>
          <a:xfrm>
            <a:off x="987480" y="2657520"/>
            <a:ext cx="461880" cy="3348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" descr=""/>
          <p:cNvPicPr/>
          <p:nvPr/>
        </p:nvPicPr>
        <p:blipFill>
          <a:blip r:embed="rId7"/>
          <a:stretch/>
        </p:blipFill>
        <p:spPr>
          <a:xfrm>
            <a:off x="905040" y="3073320"/>
            <a:ext cx="460080" cy="33336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6" descr=""/>
          <p:cNvPicPr/>
          <p:nvPr/>
        </p:nvPicPr>
        <p:blipFill>
          <a:blip r:embed="rId8"/>
          <a:stretch/>
        </p:blipFill>
        <p:spPr>
          <a:xfrm>
            <a:off x="1060560" y="4121280"/>
            <a:ext cx="460440" cy="334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7" descr=""/>
          <p:cNvPicPr/>
          <p:nvPr/>
        </p:nvPicPr>
        <p:blipFill>
          <a:blip r:embed="rId9"/>
          <a:stretch/>
        </p:blipFill>
        <p:spPr>
          <a:xfrm>
            <a:off x="1060560" y="4527720"/>
            <a:ext cx="460440" cy="334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8" descr=""/>
          <p:cNvPicPr/>
          <p:nvPr/>
        </p:nvPicPr>
        <p:blipFill>
          <a:blip r:embed="rId10"/>
          <a:stretch/>
        </p:blipFill>
        <p:spPr>
          <a:xfrm>
            <a:off x="1060560" y="4862520"/>
            <a:ext cx="460440" cy="3333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9" descr=""/>
          <p:cNvPicPr/>
          <p:nvPr/>
        </p:nvPicPr>
        <p:blipFill>
          <a:blip r:embed="rId11"/>
          <a:stretch/>
        </p:blipFill>
        <p:spPr>
          <a:xfrm>
            <a:off x="1060560" y="5300640"/>
            <a:ext cx="460440" cy="33336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10" descr=""/>
          <p:cNvPicPr/>
          <p:nvPr/>
        </p:nvPicPr>
        <p:blipFill>
          <a:blip r:embed="rId12"/>
          <a:stretch/>
        </p:blipFill>
        <p:spPr>
          <a:xfrm>
            <a:off x="1060560" y="5738760"/>
            <a:ext cx="4604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133200" y="1833480"/>
            <a:ext cx="8877600" cy="319104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8675" descr=""/>
          <p:cNvPicPr/>
          <p:nvPr/>
        </p:nvPicPr>
        <p:blipFill>
          <a:blip r:embed="rId2"/>
          <a:stretch/>
        </p:blipFill>
        <p:spPr>
          <a:xfrm>
            <a:off x="868320" y="2975040"/>
            <a:ext cx="1025640" cy="53964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1" descr=""/>
          <p:cNvPicPr/>
          <p:nvPr/>
        </p:nvPicPr>
        <p:blipFill>
          <a:blip r:embed="rId3"/>
          <a:stretch/>
        </p:blipFill>
        <p:spPr>
          <a:xfrm>
            <a:off x="2771640" y="2975040"/>
            <a:ext cx="965160" cy="53964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2" descr=""/>
          <p:cNvPicPr/>
          <p:nvPr/>
        </p:nvPicPr>
        <p:blipFill>
          <a:blip r:embed="rId4"/>
          <a:stretch/>
        </p:blipFill>
        <p:spPr>
          <a:xfrm>
            <a:off x="5859360" y="2989440"/>
            <a:ext cx="885960" cy="5396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" descr=""/>
          <p:cNvPicPr/>
          <p:nvPr/>
        </p:nvPicPr>
        <p:blipFill>
          <a:blip r:embed="rId5"/>
          <a:stretch/>
        </p:blipFill>
        <p:spPr>
          <a:xfrm>
            <a:off x="7020000" y="2989440"/>
            <a:ext cx="965160" cy="5396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4" descr=""/>
          <p:cNvPicPr/>
          <p:nvPr/>
        </p:nvPicPr>
        <p:blipFill>
          <a:blip r:embed="rId6"/>
          <a:stretch/>
        </p:blipFill>
        <p:spPr>
          <a:xfrm>
            <a:off x="1623960" y="3708360"/>
            <a:ext cx="932040" cy="54144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5" descr=""/>
          <p:cNvPicPr/>
          <p:nvPr/>
        </p:nvPicPr>
        <p:blipFill>
          <a:blip r:embed="rId7"/>
          <a:stretch/>
        </p:blipFill>
        <p:spPr>
          <a:xfrm>
            <a:off x="3452760" y="3708360"/>
            <a:ext cx="974880" cy="5414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" descr=""/>
          <p:cNvPicPr/>
          <p:nvPr/>
        </p:nvPicPr>
        <p:blipFill>
          <a:blip r:embed="rId8"/>
          <a:stretch/>
        </p:blipFill>
        <p:spPr>
          <a:xfrm>
            <a:off x="5859360" y="3693960"/>
            <a:ext cx="944640" cy="54144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7" descr=""/>
          <p:cNvPicPr/>
          <p:nvPr/>
        </p:nvPicPr>
        <p:blipFill>
          <a:blip r:embed="rId9"/>
          <a:stretch/>
        </p:blipFill>
        <p:spPr>
          <a:xfrm>
            <a:off x="7097760" y="3693960"/>
            <a:ext cx="1003320" cy="5414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8" descr=""/>
          <p:cNvPicPr/>
          <p:nvPr/>
        </p:nvPicPr>
        <p:blipFill>
          <a:blip r:embed="rId10"/>
          <a:stretch/>
        </p:blipFill>
        <p:spPr>
          <a:xfrm>
            <a:off x="1692360" y="4429080"/>
            <a:ext cx="963360" cy="53964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9" descr=""/>
          <p:cNvPicPr/>
          <p:nvPr/>
        </p:nvPicPr>
        <p:blipFill>
          <a:blip r:embed="rId11"/>
          <a:stretch/>
        </p:blipFill>
        <p:spPr>
          <a:xfrm>
            <a:off x="2851200" y="4429080"/>
            <a:ext cx="9288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237960" y="939960"/>
            <a:ext cx="8668080" cy="302868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2" descr=""/>
          <p:cNvPicPr/>
          <p:nvPr/>
        </p:nvPicPr>
        <p:blipFill>
          <a:blip r:embed="rId2"/>
          <a:stretch/>
        </p:blipFill>
        <p:spPr>
          <a:xfrm>
            <a:off x="744480" y="4641840"/>
            <a:ext cx="5295960" cy="190512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28675" descr=""/>
          <p:cNvPicPr/>
          <p:nvPr/>
        </p:nvPicPr>
        <p:blipFill>
          <a:blip r:embed="rId3"/>
          <a:stretch/>
        </p:blipFill>
        <p:spPr>
          <a:xfrm>
            <a:off x="906480" y="3405240"/>
            <a:ext cx="1865160" cy="5634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1" descr=""/>
          <p:cNvPicPr/>
          <p:nvPr/>
        </p:nvPicPr>
        <p:blipFill>
          <a:blip r:embed="rId4"/>
          <a:stretch/>
        </p:blipFill>
        <p:spPr>
          <a:xfrm>
            <a:off x="4017960" y="3405240"/>
            <a:ext cx="1728720" cy="5634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5"/>
          <a:stretch/>
        </p:blipFill>
        <p:spPr>
          <a:xfrm>
            <a:off x="7074000" y="3405240"/>
            <a:ext cx="1728720" cy="5634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3" descr=""/>
          <p:cNvPicPr/>
          <p:nvPr/>
        </p:nvPicPr>
        <p:blipFill>
          <a:blip r:embed="rId6"/>
          <a:stretch/>
        </p:blipFill>
        <p:spPr>
          <a:xfrm>
            <a:off x="1154160" y="5904000"/>
            <a:ext cx="1728720" cy="5652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4" descr=""/>
          <p:cNvPicPr/>
          <p:nvPr/>
        </p:nvPicPr>
        <p:blipFill>
          <a:blip r:embed="rId7"/>
          <a:stretch/>
        </p:blipFill>
        <p:spPr>
          <a:xfrm>
            <a:off x="4125960" y="5918040"/>
            <a:ext cx="188604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343080" y="1004760"/>
            <a:ext cx="8458200" cy="506592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6" descr=""/>
          <p:cNvPicPr/>
          <p:nvPr/>
        </p:nvPicPr>
        <p:blipFill>
          <a:blip r:embed="rId2"/>
          <a:stretch/>
        </p:blipFill>
        <p:spPr>
          <a:xfrm>
            <a:off x="963720" y="142704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1" descr=""/>
          <p:cNvPicPr/>
          <p:nvPr/>
        </p:nvPicPr>
        <p:blipFill>
          <a:blip r:embed="rId3"/>
          <a:stretch/>
        </p:blipFill>
        <p:spPr>
          <a:xfrm>
            <a:off x="963720" y="232884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2" descr=""/>
          <p:cNvPicPr/>
          <p:nvPr/>
        </p:nvPicPr>
        <p:blipFill>
          <a:blip r:embed="rId4"/>
          <a:stretch/>
        </p:blipFill>
        <p:spPr>
          <a:xfrm>
            <a:off x="963720" y="353232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3" descr=""/>
          <p:cNvPicPr/>
          <p:nvPr/>
        </p:nvPicPr>
        <p:blipFill>
          <a:blip r:embed="rId5"/>
          <a:stretch/>
        </p:blipFill>
        <p:spPr>
          <a:xfrm>
            <a:off x="963720" y="45180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4" descr=""/>
          <p:cNvPicPr/>
          <p:nvPr/>
        </p:nvPicPr>
        <p:blipFill>
          <a:blip r:embed="rId6"/>
          <a:stretch/>
        </p:blipFill>
        <p:spPr>
          <a:xfrm>
            <a:off x="963720" y="5229360"/>
            <a:ext cx="4618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520560" y="446040"/>
            <a:ext cx="8104320" cy="62467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6" descr=""/>
          <p:cNvPicPr/>
          <p:nvPr/>
        </p:nvPicPr>
        <p:blipFill>
          <a:blip r:embed="rId2"/>
          <a:stretch/>
        </p:blipFill>
        <p:spPr>
          <a:xfrm>
            <a:off x="1152360" y="127008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1" descr=""/>
          <p:cNvPicPr/>
          <p:nvPr/>
        </p:nvPicPr>
        <p:blipFill>
          <a:blip r:embed="rId3"/>
          <a:stretch/>
        </p:blipFill>
        <p:spPr>
          <a:xfrm>
            <a:off x="1152360" y="2409840"/>
            <a:ext cx="462240" cy="334800"/>
          </a:xfrm>
          <a:prstGeom prst="rect">
            <a:avLst/>
          </a:prstGeom>
          <a:ln w="0">
            <a:noFill/>
          </a:ln>
        </p:spPr>
      </p:pic>
      <p:pic>
        <p:nvPicPr>
          <p:cNvPr id="1093" name="图片 2" descr=""/>
          <p:cNvPicPr/>
          <p:nvPr/>
        </p:nvPicPr>
        <p:blipFill>
          <a:blip r:embed="rId4"/>
          <a:stretch/>
        </p:blipFill>
        <p:spPr>
          <a:xfrm>
            <a:off x="1152360" y="3632040"/>
            <a:ext cx="462240" cy="333360"/>
          </a:xfrm>
          <a:prstGeom prst="rect">
            <a:avLst/>
          </a:prstGeom>
          <a:ln w="0">
            <a:noFill/>
          </a:ln>
        </p:spPr>
      </p:pic>
      <p:pic>
        <p:nvPicPr>
          <p:cNvPr id="1094" name="图片 3" descr=""/>
          <p:cNvPicPr/>
          <p:nvPr/>
        </p:nvPicPr>
        <p:blipFill>
          <a:blip r:embed="rId5"/>
          <a:stretch/>
        </p:blipFill>
        <p:spPr>
          <a:xfrm>
            <a:off x="1152360" y="4784760"/>
            <a:ext cx="462240" cy="33480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4" descr=""/>
          <p:cNvPicPr/>
          <p:nvPr/>
        </p:nvPicPr>
        <p:blipFill>
          <a:blip r:embed="rId6"/>
          <a:stretch/>
        </p:blipFill>
        <p:spPr>
          <a:xfrm>
            <a:off x="1152360" y="5961240"/>
            <a:ext cx="4622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图片 1" descr=""/>
          <p:cNvPicPr/>
          <p:nvPr/>
        </p:nvPicPr>
        <p:blipFill>
          <a:blip r:embed="rId1"/>
          <a:stretch/>
        </p:blipFill>
        <p:spPr>
          <a:xfrm>
            <a:off x="100080" y="871560"/>
            <a:ext cx="8942400" cy="51148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6" descr=""/>
          <p:cNvPicPr/>
          <p:nvPr/>
        </p:nvPicPr>
        <p:blipFill>
          <a:blip r:embed="rId2"/>
          <a:stretch/>
        </p:blipFill>
        <p:spPr>
          <a:xfrm>
            <a:off x="698400" y="1306440"/>
            <a:ext cx="522360" cy="3333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728640" y="265428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2" descr=""/>
          <p:cNvPicPr/>
          <p:nvPr/>
        </p:nvPicPr>
        <p:blipFill>
          <a:blip r:embed="rId4"/>
          <a:stretch/>
        </p:blipFill>
        <p:spPr>
          <a:xfrm>
            <a:off x="758880" y="3495600"/>
            <a:ext cx="461880" cy="33516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3" descr=""/>
          <p:cNvPicPr/>
          <p:nvPr/>
        </p:nvPicPr>
        <p:blipFill>
          <a:blip r:embed="rId5"/>
          <a:stretch/>
        </p:blipFill>
        <p:spPr>
          <a:xfrm>
            <a:off x="758880" y="4314960"/>
            <a:ext cx="461880" cy="33336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4" descr=""/>
          <p:cNvPicPr/>
          <p:nvPr/>
        </p:nvPicPr>
        <p:blipFill>
          <a:blip r:embed="rId6"/>
          <a:stretch/>
        </p:blipFill>
        <p:spPr>
          <a:xfrm>
            <a:off x="758880" y="5216400"/>
            <a:ext cx="4618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9:11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